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517-CBC3-466A-9928-B625B24E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C51-FF64-486A-9DDD-ED8C680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647-7A2D-4723-A08A-6084B5FA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445-D605-4D22-B05D-71212910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B16-8233-4790-8C4F-4957BF8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FC2-BB8B-43A9-A354-190B34EB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72D-27B1-43E1-9270-B81085F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EDC-9A8D-4E27-8F78-BC285E0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587-9500-4CBE-B86F-37AF3C4A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EE8-61D6-4250-883A-AF93681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D95-E734-47D6-9E0A-AB8D6B0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C5C-2EB1-4636-B261-FCEA639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4BE-D3F0-4C93-BB4A-C2041673AF0D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434340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6019920" y="144792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143000" y="14479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0666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1T19:03:29Z</dcterms:modified>
  <cp:revision>20</cp:revision>
  <dc:subject/>
  <dc:title>  Символика в романе Ф.М Достоевского «Преступление и наказание» </dc:title>
</cp:coreProperties>
</file>